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9DF9-5D80-4FA6-B9AB-8C481BDB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9093-A09C-411D-88F7-E4839E87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3162-66B7-4C53-AE93-85ADE098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6780-C45C-4D42-B7B1-52C3F1B6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062D-D344-42C0-B213-F0EC1C9E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60E0-ECC9-48C7-86D7-83E2C146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AF0D-06DA-43C8-AC69-6CD35D40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6FFE-13EC-4534-89B6-A54827AC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13C1-43D4-4029-AC0D-CAF67BF7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848F-EB8B-4690-A48A-7ED90EE7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D9DB-DDB7-46F0-9CD0-3B0E2C7E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19F3-4527-4558-8D37-8F281DB8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56A4-DC61-4C30-AF60-757581869BE9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3097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SILIUL JUDEŢEAN ARGEŞ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96000" y="0"/>
            <a:ext cx="321768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Hotărârea C.J. Argeş n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______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exa n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2"/>
          <p:cNvSpPr/>
          <p:nvPr/>
        </p:nvSpPr>
        <p:spPr>
          <a:xfrm>
            <a:off x="1571760" y="500040"/>
            <a:ext cx="640080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RGANIGRAM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ŢIEI GENERAL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NTRU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EVIDENŢA PERSOANELOR ARGE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5"/>
          <p:cNvSpPr/>
          <p:nvPr/>
        </p:nvSpPr>
        <p:spPr>
          <a:xfrm>
            <a:off x="3929040" y="2428920"/>
            <a:ext cx="180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REC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6"/>
          <p:cNvSpPr/>
          <p:nvPr/>
        </p:nvSpPr>
        <p:spPr>
          <a:xfrm rot="16200000">
            <a:off x="-474480" y="3650760"/>
            <a:ext cx="2500200" cy="760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ERVICIUL DE EVIDENŢ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A PERSOANEL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7"/>
          <p:cNvSpPr/>
          <p:nvPr/>
        </p:nvSpPr>
        <p:spPr>
          <a:xfrm rot="16200000">
            <a:off x="690480" y="3566520"/>
            <a:ext cx="2500200" cy="9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IUL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STA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CIVIL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3"/>
          <p:cNvSpPr/>
          <p:nvPr/>
        </p:nvSpPr>
        <p:spPr>
          <a:xfrm>
            <a:off x="6443640" y="378936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5"/>
          <p:cNvSpPr/>
          <p:nvPr/>
        </p:nvSpPr>
        <p:spPr>
          <a:xfrm rot="16200000">
            <a:off x="4567320" y="4362120"/>
            <a:ext cx="2665080" cy="6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COMPARTIMENT INFORMA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7"/>
          <p:cNvSpPr/>
          <p:nvPr/>
        </p:nvSpPr>
        <p:spPr>
          <a:xfrm rot="16200000">
            <a:off x="5508000" y="4366080"/>
            <a:ext cx="2665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COMPARTI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DMINISTRATIV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76"/>
          <p:cNvSpPr/>
          <p:nvPr/>
        </p:nvSpPr>
        <p:spPr>
          <a:xfrm>
            <a:off x="5857920" y="29289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0"/>
          <p:cNvSpPr/>
          <p:nvPr/>
        </p:nvSpPr>
        <p:spPr>
          <a:xfrm>
            <a:off x="6929280" y="6143760"/>
            <a:ext cx="207180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TAL  P. 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: 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UCERE=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4 funcţii publ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ECU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ŢI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33 funcţii publ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ECU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ŢI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 3 funcţii contractu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3"/>
          <p:cNvSpPr/>
          <p:nvPr/>
        </p:nvSpPr>
        <p:spPr>
          <a:xfrm>
            <a:off x="90000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6"/>
          <p:cNvSpPr/>
          <p:nvPr/>
        </p:nvSpPr>
        <p:spPr>
          <a:xfrm>
            <a:off x="68436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8"/>
          <p:cNvSpPr/>
          <p:nvPr/>
        </p:nvSpPr>
        <p:spPr>
          <a:xfrm rot="10800000">
            <a:off x="4572000" y="3357360"/>
            <a:ext cx="720720" cy="26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COMPARTIMENT FINANCIAR CONTAB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9"/>
          <p:cNvSpPr/>
          <p:nvPr/>
        </p:nvSpPr>
        <p:spPr>
          <a:xfrm>
            <a:off x="197964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3"/>
          <p:cNvSpPr/>
          <p:nvPr/>
        </p:nvSpPr>
        <p:spPr>
          <a:xfrm>
            <a:off x="4859280" y="2924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4"/>
          <p:cNvSpPr/>
          <p:nvPr/>
        </p:nvSpPr>
        <p:spPr>
          <a:xfrm>
            <a:off x="2714760" y="1000080"/>
            <a:ext cx="4319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ONSILIUL JUDEŢEAN ARGE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8"/>
          <p:cNvSpPr/>
          <p:nvPr/>
        </p:nvSpPr>
        <p:spPr>
          <a:xfrm>
            <a:off x="684360" y="2565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5"/>
          <p:cNvSpPr/>
          <p:nvPr/>
        </p:nvSpPr>
        <p:spPr>
          <a:xfrm>
            <a:off x="3643200" y="1714680"/>
            <a:ext cx="2786040" cy="35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DIRECŢIA  GENERALĂ PENT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EVIDENŢA PERSOANELOR ARGE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9"/>
          <p:cNvSpPr/>
          <p:nvPr/>
        </p:nvSpPr>
        <p:spPr>
          <a:xfrm>
            <a:off x="5000760" y="13572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9"/>
          <p:cNvSpPr/>
          <p:nvPr/>
        </p:nvSpPr>
        <p:spPr>
          <a:xfrm>
            <a:off x="4929120" y="20718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9"/>
          <p:cNvSpPr/>
          <p:nvPr/>
        </p:nvSpPr>
        <p:spPr>
          <a:xfrm>
            <a:off x="5508720" y="270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94"/>
          <p:cNvSpPr/>
          <p:nvPr/>
        </p:nvSpPr>
        <p:spPr>
          <a:xfrm>
            <a:off x="4859280" y="2924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8"/>
          <p:cNvSpPr/>
          <p:nvPr/>
        </p:nvSpPr>
        <p:spPr>
          <a:xfrm>
            <a:off x="6804000" y="2924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7"/>
          <p:cNvSpPr/>
          <p:nvPr/>
        </p:nvSpPr>
        <p:spPr>
          <a:xfrm rot="16200000">
            <a:off x="2057400" y="3566520"/>
            <a:ext cx="2500200" cy="9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IUL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JURIDIC     CONTR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ESURSE UMANE    Ş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ELAŢII PUBL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9"/>
          <p:cNvSpPr/>
          <p:nvPr/>
        </p:nvSpPr>
        <p:spPr>
          <a:xfrm>
            <a:off x="3348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09:47:59Z</dcterms:created>
  <dc:creator>it</dc:creator>
  <dc:description/>
  <dc:language>en-US</dc:language>
  <cp:lastModifiedBy>DIRECTOR</cp:lastModifiedBy>
  <dcterms:modified xsi:type="dcterms:W3CDTF">2016-04-15T07:57:00Z</dcterms:modified>
  <cp:revision>63</cp:revision>
  <dc:subject/>
  <dc:title>CONSILIUL JUDEŢEAN ARGEŞ                                                                              </dc:title>
</cp:coreProperties>
</file>